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E96EA-F97C-46BC-A327-D7E7D96F9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EE3CC-C085-416C-A51E-B3118A3BE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68627-8C0C-4705-9821-2EF32728C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111AF-0981-4632-9AC7-B9CA752AD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3ADED-5155-428E-964D-C85DA9319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F03EA-1016-4F87-B0DC-99D962C4A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C265B-2D1A-450C-9439-B497351DC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8911C-4268-4C74-A8B0-C8CB8BCC3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53DF7-D0EA-469E-AF6E-2988B24F5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5D114-3E87-42EF-BF79-64D089908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D2F1F-652E-4985-99D8-B5D7AE520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B6762-43B5-41AF-A630-6922FA6E7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5AE8-0D06-4005-87DA-109C103407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Protoco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62120" y="228600"/>
            <a:ext cx="7391160" cy="16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verall aim of this tutorial is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ine the spectra of the spikes and LFPs and of the correlation between the spikes and LFPs and create appropriate hypotheses. (e.g. the spike and/or LFP spectra in a particular band of frequencies are significantly different between a pair of directions.) Test these hypotheses and draw appropriate conclusions. You also want to compare the tuning of the spike rate with that of the LFP. At the minimum,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
          <p:cNvSpPr/>
          <p:nvPr/>
        </p:nvSpPr>
        <p:spPr>
          <a:xfrm>
            <a:off x="762120" y="1676520"/>
            <a:ext cx="771192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mpute the spike rates (as a function of time) for each direction using Locfit. Then plot directional tuning curves based on the mean spike rate in the delay period (This should be motivated by observing the behavior of the spike rate as a function of tim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Compute the average LFP spectrograms for trials to each direction – using the routines mtspecgramc.m and/or mtspecgramtrigc.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ou will observe that there is gamma band activity in the LFP spectra during the delay period and that this activity shows a direction dependence. Based on this observation, plot the gamma band LFP power during the delay period as a function of direction – this is the LFP tuning cur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Test the hypothesis that the gamma band LFP power differs most significantly for a pair of directions – these will be the preferred and anti-preferred directions for this recording – you could use a t-t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Finally, examine spike spectra and spike-field coherence for this pair of directions (or all eight directions) see whether there is similar directional tuning for these quantities. Note that in each case, you want to put error bars for comparison between direc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1219320"/>
            <a:ext cx="8076960" cy="3866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ings have already been conditioned (i.e. broad-band recordings were separated in LFPs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multi-unit traces, spikes were extracted, 60 Hz noise was removed, and recordings were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rranged into groups corresponding to the eight directions. The data is in electrophys_tut.mat.</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is file is loaded into matlab, you should have the following variabl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lfp – 4 channels of continuous LFP recordings (from a tetrod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p – struct array of spike times for two neuron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ltimes – start times of the trial</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on – fixation light comes on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acq – fixation acquired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on – target light comes on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off – target light goes off times – beginning of delay</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off – fixation off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ccade – saccade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target direction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s-sampling frequency for the LFP</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l times are in seconds from the start of the recording sessio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
          <p:cNvSpPr/>
          <p:nvPr/>
        </p:nvSpPr>
        <p:spPr>
          <a:xfrm>
            <a:off x="5486400" y="2514600"/>
            <a:ext cx="3273480" cy="362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gt; load LIPdata.m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gt; wh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ame             Size                   Bytes  Cla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s               1x1                        8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lfp        755171x4                 24165472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sp              1x2                   163400  struct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xacq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xoff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xon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accade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rgets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rgoff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rgon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ialtimes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is 3041729 elements using 24334000 by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g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04920" y="1143000"/>
            <a:ext cx="8686800" cy="4191120"/>
          </a:xfrm>
          <a:prstGeom prst="rect">
            <a:avLst/>
          </a:prstGeom>
          <a:ln w="0">
            <a:noFill/>
          </a:ln>
        </p:spPr>
      </p:pic>
      <p:sp>
        <p:nvSpPr>
          <p:cNvPr id="84" name=""/>
          <p:cNvSpPr/>
          <p:nvPr/>
        </p:nvSpPr>
        <p:spPr>
          <a:xfrm>
            <a:off x="526680" y="493560"/>
            <a:ext cx="3884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mewhat more complete protocol</a:t>
            </a:r>
            <a:endParaRPr b="0" lang="en-US" sz="1800" spc="-1" strike="noStrike">
              <a:solidFill>
                <a:srgbClr val="000000"/>
              </a:solidFill>
              <a:latin typeface="Arial"/>
            </a:endParaRPr>
          </a:p>
        </p:txBody>
      </p:sp>
      <p:sp>
        <p:nvSpPr>
          <p:cNvPr id="85" name=""/>
          <p:cNvSpPr/>
          <p:nvPr/>
        </p:nvSpPr>
        <p:spPr>
          <a:xfrm>
            <a:off x="523080" y="5827680"/>
            <a:ext cx="813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se tasks essentially describe the contents of Pesaran et al (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824760" y="4176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ronux</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 name=""/>
          <p:cNvSpPr/>
          <p:nvPr/>
        </p:nvSpPr>
        <p:spPr>
          <a:xfrm>
            <a:off x="762120" y="1523880"/>
            <a:ext cx="754380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nux offers several routines for computing spectra and coherences for both point processes and continuous processes. In addition, it also offers several general purpose routines that we have found useful such as a routine for extracting specified segments from data, or binning spike time data with bins of a specified size. Since the data can be continuous valued, point process times, or point processes that are binned, methods that apply to all these data types are given in routines whose names end with ‘c’ for continuous, ‘pb’ for binned point processes, and ‘pt’ for point process times. Thus, mtspectrumc computes the spectrum of continuous data, mtspectrumpb, and mtspectrumpt compute spectra for binned point processes and point process times. More on these lat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74280" y="798480"/>
            <a:ext cx="736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 Segment the data in analysis blocks centered on the onset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lay period. </a:t>
            </a:r>
            <a:endParaRPr b="0" lang="en-US" sz="1800" spc="-1" strike="noStrike">
              <a:solidFill>
                <a:srgbClr val="000000"/>
              </a:solidFill>
              <a:latin typeface="Arial"/>
            </a:endParaRPr>
          </a:p>
        </p:txBody>
      </p:sp>
      <p:sp>
        <p:nvSpPr>
          <p:cNvPr id="89" name=""/>
          <p:cNvSpPr/>
          <p:nvPr/>
        </p:nvSpPr>
        <p:spPr>
          <a:xfrm>
            <a:off x="2359440" y="2286000"/>
            <a:ext cx="4458600" cy="2649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E=targoff; win=[2 2]; datasp=createdatamatpt(dsp(1),E,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whos datas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Size                   Bytes  Cla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sp       1x80                   32984  struct arr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 total is 3595 elements using 32984 by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datalfp=createdatamatc(dlfp(:,1),E,Fs,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whos datalf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Size                   Bytes  Cla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lfp    4000x80                 2560000  double arr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 total is 320000 elements using 2560000 by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14400" y="685800"/>
            <a:ext cx="7315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t us move on to spectral comput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information about Chronux can be obtained by typing “help chronux”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mand prompt. More information is found in the documentation. We start by creating a variable params that keeps parameters commonly used by chronux in a single structure. </a:t>
            </a:r>
            <a:endParaRPr b="0" lang="en-US" sz="1400" spc="-1" strike="noStrike">
              <a:solidFill>
                <a:srgbClr val="000000"/>
              </a:solidFill>
              <a:latin typeface="Arial"/>
            </a:endParaRPr>
          </a:p>
        </p:txBody>
      </p:sp>
      <p:sp>
        <p:nvSpPr>
          <p:cNvPr id="91" name=""/>
          <p:cNvSpPr/>
          <p:nvPr/>
        </p:nvSpPr>
        <p:spPr>
          <a:xfrm>
            <a:off x="983160" y="2209680"/>
            <a:ext cx="559080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params=struct('tapers',[5 9],'pad',2,'Fs',1000,'fpass',[0 100],'err',0,'trialave',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whos pa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Size                   Bytes  Cla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ams       1x1                      808  struct arr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 total is 14 elements using 808 by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pa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s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pers: [5 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s: 1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pass: [0 1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rr: 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lave: 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050120" y="1041480"/>
            <a:ext cx="4277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gt; [S,f]=mtspectrumc(detrend(datalfp(:,1)),params);</a:t>
            </a:r>
            <a:endParaRPr b="0" lang="en-US" sz="1400" spc="-1" strike="noStrike">
              <a:solidFill>
                <a:srgbClr val="000000"/>
              </a:solidFill>
              <a:latin typeface="Arial"/>
            </a:endParaRPr>
          </a:p>
        </p:txBody>
      </p:sp>
      <p:sp>
        <p:nvSpPr>
          <p:cNvPr id="93" name=""/>
          <p:cNvSpPr/>
          <p:nvPr/>
        </p:nvSpPr>
        <p:spPr>
          <a:xfrm>
            <a:off x="367560" y="493560"/>
            <a:ext cx="36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pectrum for the first trial</a:t>
            </a:r>
            <a:endParaRPr b="0" lang="en-US" sz="1800" spc="-1" strike="noStrike">
              <a:solidFill>
                <a:srgbClr val="000000"/>
              </a:solidFill>
              <a:latin typeface="Arial"/>
            </a:endParaRPr>
          </a:p>
        </p:txBody>
      </p:sp>
      <p:sp>
        <p:nvSpPr>
          <p:cNvPr id="94" name=""/>
          <p:cNvSpPr/>
          <p:nvPr/>
        </p:nvSpPr>
        <p:spPr>
          <a:xfrm>
            <a:off x="367920" y="2170080"/>
            <a:ext cx="22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error bars:</a:t>
            </a:r>
            <a:endParaRPr b="0" lang="en-US" sz="1800" spc="-1" strike="noStrike">
              <a:solidFill>
                <a:srgbClr val="000000"/>
              </a:solidFill>
              <a:latin typeface="Arial"/>
            </a:endParaRPr>
          </a:p>
        </p:txBody>
      </p:sp>
      <p:sp>
        <p:nvSpPr>
          <p:cNvPr id="95" name=""/>
          <p:cNvSpPr/>
          <p:nvPr/>
        </p:nvSpPr>
        <p:spPr>
          <a:xfrm>
            <a:off x="1289160" y="3022560"/>
            <a:ext cx="5392800" cy="10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gt;[S,f,Serr]=mtspectrumc(detrend(datalfp(:,1)),para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Error using ==&gt; mtspectrum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hen Serr is desired, err(1) has to be non-ze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params.err=[1 0.05]; [S,f,Serr]=mtspectrumc(detrend(datalfp(:,1)),pa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plot(f,10*log10(S),f,10*log10(Serr(1,:),f,10*log10(Serr(2,:));</a:t>
            </a:r>
            <a:endParaRPr b="0" lang="en-US" sz="1200" spc="-1" strike="noStrike">
              <a:solidFill>
                <a:srgbClr val="000000"/>
              </a:solidFill>
              <a:latin typeface="Arial"/>
            </a:endParaRPr>
          </a:p>
        </p:txBody>
      </p:sp>
      <p:sp>
        <p:nvSpPr>
          <p:cNvPr id="96" name=""/>
          <p:cNvSpPr/>
          <p:nvPr/>
        </p:nvSpPr>
        <p:spPr>
          <a:xfrm>
            <a:off x="445680" y="4379760"/>
            <a:ext cx="530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average spectrum for trials to direction 1:</a:t>
            </a:r>
            <a:endParaRPr b="0" lang="en-US" sz="1800" spc="-1" strike="noStrike">
              <a:solidFill>
                <a:srgbClr val="000000"/>
              </a:solidFill>
              <a:latin typeface="Arial"/>
            </a:endParaRPr>
          </a:p>
        </p:txBody>
      </p:sp>
      <p:sp>
        <p:nvSpPr>
          <p:cNvPr id="97" name=""/>
          <p:cNvSpPr/>
          <p:nvPr/>
        </p:nvSpPr>
        <p:spPr>
          <a:xfrm>
            <a:off x="2514600" y="4800600"/>
            <a:ext cx="4572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indx=find(target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datalfp1=datalfp(:,ind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params.err=[1 0.05];params.trialave=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S1,f1,Serr1]=mtspectrumc(datalfp1,params);</a:t>
            </a:r>
            <a:endParaRPr b="0" lang="en-US" sz="1200" spc="-1" strike="noStrike">
              <a:solidFill>
                <a:srgbClr val="000000"/>
              </a:solidFill>
              <a:latin typeface="Arial"/>
            </a:endParaRPr>
          </a:p>
        </p:txBody>
      </p:sp>
      <p:sp>
        <p:nvSpPr>
          <p:cNvPr id="98" name=""/>
          <p:cNvSpPr/>
          <p:nvPr/>
        </p:nvSpPr>
        <p:spPr>
          <a:xfrm>
            <a:off x="524520" y="5751360"/>
            <a:ext cx="6532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routine (similar routines available for coherence etc)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t;&gt;E=targoff(ind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t;&gt;[S1,f1,Serr1]=mtspectrumtrigc(dlfp(:,1),E,para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1600200"/>
            <a:ext cx="7315200" cy="341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name,pname]=uigetf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load ' pname '\' f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ms.tapers=[5 9]; params.pad=2; params.Fs=1000; params.fpass=[0 100]; params.trialave=1;params.err=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ingwin=[0.5 0.1]; % duration of moving window used to evaluate spectrog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2 2]; % window around ev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num=[2 3 6 9 8 7 4 1]; % figure numbers for particular dire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arg=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targoff(find(targets==tar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sp,tsp,fsp,R]=mtspecgramtrigpt(dsp(1),E,win,movingwin,pa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gure(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plot(3,3,fignum(targ+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magesc(t,f,10*log10(S)'); axis xy; colorb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gure(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plot(3,3,fignum(targ+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ot(t,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lfp,tlfp,flfp]=mtspecgramtrigc(dlfp(:,1),E,win,movingwin,pa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gure(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plot(3,3,fignum(targ+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magesc(t,f,10*log10(S)'); axis xy; colorb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0" name=""/>
          <p:cNvSpPr/>
          <p:nvPr/>
        </p:nvSpPr>
        <p:spPr>
          <a:xfrm>
            <a:off x="844200" y="762120"/>
            <a:ext cx="770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ode to compute spectra of the LFP and spikes and the spike-fie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herence (this is in file spectraMBL2005.m) for all eight dir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540720" y="380880"/>
            <a:ext cx="810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ode to compute spike-field coherence for each of the eight dire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pike-field-coherencyMBL2005.m)</a:t>
            </a:r>
            <a:endParaRPr b="0" lang="en-US" sz="1800" spc="-1" strike="noStrike">
              <a:solidFill>
                <a:srgbClr val="000000"/>
              </a:solidFill>
              <a:latin typeface="Arial"/>
            </a:endParaRPr>
          </a:p>
        </p:txBody>
      </p:sp>
      <p:sp>
        <p:nvSpPr>
          <p:cNvPr id="102" name=""/>
          <p:cNvSpPr/>
          <p:nvPr/>
        </p:nvSpPr>
        <p:spPr>
          <a:xfrm>
            <a:off x="762120" y="1600200"/>
            <a:ext cx="7924680" cy="264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name,pname]=uigetf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load ' pname '\' f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s.tapers=[5 9]; params.pad=2; params.Fs=1000; params.fpass=[0 100]; params.trialave=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win=[0.5 0.1]; % duration of moving window used to evaluate spectrog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2 2]; % window around ev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num=[2 3 6 9 8 7 4 1]; % figure numbers for particular dire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arg=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targoff(find(targets==tar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sp=createdatamatpt(dsp(1),E,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lfp=createdatamatc(dlfp(:,1),E,Fs,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phi,S12,S1,S2,t,f,zerosp]=cohgramcpt(datalfp,datasp,movingwin,params); % Note cohgramcpt does give you % spectra but not the errors on the spect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plot(3,3,fignum(targ+1));imagesc(t,f,C'); axis xy; colorb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61280" y="304920"/>
            <a:ext cx="876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ode to compute spike-field coherence with error bars and confidence lev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of the eight directions (file significant-spike-field-coherencyMBL2005.m)</a:t>
            </a:r>
            <a:endParaRPr b="0" lang="en-US" sz="1800" spc="-1" strike="noStrike">
              <a:solidFill>
                <a:srgbClr val="000000"/>
              </a:solidFill>
              <a:latin typeface="Arial"/>
            </a:endParaRPr>
          </a:p>
        </p:txBody>
      </p:sp>
      <p:sp>
        <p:nvSpPr>
          <p:cNvPr id="104" name=""/>
          <p:cNvSpPr/>
          <p:nvPr/>
        </p:nvSpPr>
        <p:spPr>
          <a:xfrm>
            <a:off x="228600" y="1557360"/>
            <a:ext cx="8686800" cy="2466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name,pname]=uigetf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load ' pname '\' f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s.tapers=[5 9]; params.pad=2; params.Fs=1000; params.fpass=[0 100]; params.trialave=1;params.err=[2 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win=[0.5 0.1]; % duration of moving window used to evaluate spectrog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2 2]; % window around ev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num=[2 3 6 9 8 7 4 1]; % figure numbers for particular dire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arg=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targoff(find(targets==tar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sp=createdatamatpt(dsp(1),E,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lfp=createdatamatc(dlfp(:,1),E,Fs,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phi,S12,S1,S2,t,f,zerosp,confC,phierr,Cerr]=cohgramcpt(datalfp,datasp,movingwin,param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plot(3,3,fignum(targ+1));plotsig(C,confC,t,f); axis xy; colorb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1676520" y="533520"/>
            <a:ext cx="5485680" cy="3048840"/>
            <a:chOff x="1676520" y="533520"/>
            <a:chExt cx="5485680" cy="3048840"/>
          </a:xfrm>
        </p:grpSpPr>
        <p:cxnSp>
          <p:nvCxnSpPr>
            <p:cNvPr id="44" name="_s3092"/>
            <p:cNvCxnSpPr>
              <a:stCxn id="45" idx="1"/>
              <a:endCxn id="46" idx="2"/>
            </p:cNvCxnSpPr>
            <p:nvPr/>
          </p:nvCxnSpPr>
          <p:spPr>
            <a:xfrm rot="10800000">
              <a:off x="4418640" y="1294920"/>
              <a:ext cx="274680" cy="762840"/>
            </a:xfrm>
            <a:prstGeom prst="bentConnector2">
              <a:avLst/>
            </a:prstGeom>
            <a:ln w="28440">
              <a:solidFill>
                <a:srgbClr val="000000"/>
              </a:solidFill>
              <a:miter/>
            </a:ln>
          </p:spPr>
        </p:cxnSp>
        <p:cxnSp>
          <p:nvCxnSpPr>
            <p:cNvPr id="47" name="_s3090"/>
            <p:cNvCxnSpPr>
              <a:stCxn id="48" idx="3"/>
              <a:endCxn id="46" idx="2"/>
            </p:cNvCxnSpPr>
            <p:nvPr/>
          </p:nvCxnSpPr>
          <p:spPr>
            <a:xfrm flipV="1">
              <a:off x="4144680" y="1294920"/>
              <a:ext cx="274680" cy="762840"/>
            </a:xfrm>
            <a:prstGeom prst="bentConnector2">
              <a:avLst/>
            </a:prstGeom>
            <a:ln w="28440">
              <a:solidFill>
                <a:srgbClr val="000000"/>
              </a:solidFill>
              <a:miter/>
            </a:ln>
          </p:spPr>
        </p:cxnSp>
        <p:cxnSp>
          <p:nvCxnSpPr>
            <p:cNvPr id="49" name="_s3086"/>
            <p:cNvCxnSpPr>
              <a:stCxn id="50" idx="0"/>
              <a:endCxn id="46" idx="2"/>
            </p:cNvCxnSpPr>
            <p:nvPr/>
          </p:nvCxnSpPr>
          <p:spPr>
            <a:xfrm flipV="1" rot="16200000">
              <a:off x="4616280" y="1097280"/>
              <a:ext cx="1525320" cy="1920600"/>
            </a:xfrm>
            <a:prstGeom prst="bentConnector3">
              <a:avLst>
                <a:gd name="adj1" fmla="val 7483"/>
              </a:avLst>
            </a:prstGeom>
            <a:ln w="28440">
              <a:solidFill>
                <a:srgbClr val="000000"/>
              </a:solidFill>
              <a:miter/>
            </a:ln>
          </p:spPr>
        </p:cxnSp>
        <p:cxnSp>
          <p:nvCxnSpPr>
            <p:cNvPr id="51" name="_s3085"/>
            <p:cNvCxnSpPr>
              <a:stCxn id="52" idx="0"/>
              <a:endCxn id="46" idx="2"/>
            </p:cNvCxnSpPr>
            <p:nvPr/>
          </p:nvCxnSpPr>
          <p:spPr>
            <a:xfrm flipV="1">
              <a:off x="4419360" y="1294920"/>
              <a:ext cx="2160" cy="1525320"/>
            </a:xfrm>
            <a:prstGeom prst="bentConnector2">
              <a:avLst/>
            </a:prstGeom>
            <a:ln w="28440">
              <a:solidFill>
                <a:srgbClr val="000000"/>
              </a:solidFill>
              <a:miter/>
            </a:ln>
          </p:spPr>
        </p:cxnSp>
        <p:cxnSp>
          <p:nvCxnSpPr>
            <p:cNvPr id="53" name="_s3084"/>
            <p:cNvCxnSpPr>
              <a:stCxn id="54" idx="0"/>
              <a:endCxn id="46" idx="2"/>
            </p:cNvCxnSpPr>
            <p:nvPr/>
          </p:nvCxnSpPr>
          <p:spPr>
            <a:xfrm flipH="1" flipV="1" rot="5400000">
              <a:off x="2697480" y="1098000"/>
              <a:ext cx="1525320" cy="1919160"/>
            </a:xfrm>
            <a:prstGeom prst="bentConnector3">
              <a:avLst>
                <a:gd name="adj1" fmla="val 7483"/>
              </a:avLst>
            </a:prstGeom>
            <a:ln w="28440">
              <a:solidFill>
                <a:srgbClr val="000000"/>
              </a:solidFill>
              <a:miter/>
            </a:ln>
          </p:spPr>
        </p:cxnSp>
        <p:sp>
          <p:nvSpPr>
            <p:cNvPr id="46" name="_s3080"/>
            <p:cNvSpPr/>
            <p:nvPr/>
          </p:nvSpPr>
          <p:spPr>
            <a:xfrm>
              <a:off x="3596400" y="53352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nalysis</a:t>
              </a:r>
              <a:endParaRPr b="0" lang="en-US" sz="2000" spc="-1" strike="noStrike">
                <a:solidFill>
                  <a:srgbClr val="000000"/>
                </a:solidFill>
                <a:latin typeface="Arial"/>
              </a:endParaRPr>
            </a:p>
          </p:txBody>
        </p:sp>
        <p:sp>
          <p:nvSpPr>
            <p:cNvPr id="54" name="_s3081"/>
            <p:cNvSpPr/>
            <p:nvPr/>
          </p:nvSpPr>
          <p:spPr>
            <a:xfrm>
              <a:off x="1676520" y="282024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Arial"/>
              </a:endParaRPr>
            </a:p>
          </p:txBody>
        </p:sp>
        <p:sp>
          <p:nvSpPr>
            <p:cNvPr id="52" name="_s3082"/>
            <p:cNvSpPr/>
            <p:nvPr/>
          </p:nvSpPr>
          <p:spPr>
            <a:xfrm>
              <a:off x="3596400" y="282024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s</a:t>
              </a:r>
              <a:endParaRPr b="0" lang="en-US" sz="1600" spc="-1" strike="noStrike">
                <a:solidFill>
                  <a:srgbClr val="000000"/>
                </a:solidFill>
                <a:latin typeface="Arial"/>
              </a:endParaRPr>
            </a:p>
          </p:txBody>
        </p:sp>
        <p:sp>
          <p:nvSpPr>
            <p:cNvPr id="50" name="_s3083"/>
            <p:cNvSpPr/>
            <p:nvPr/>
          </p:nvSpPr>
          <p:spPr>
            <a:xfrm>
              <a:off x="5516640" y="282024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Method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orithms)</a:t>
              </a:r>
              <a:endParaRPr b="0" lang="en-US" sz="1600" spc="-1" strike="noStrike">
                <a:solidFill>
                  <a:srgbClr val="000000"/>
                </a:solidFill>
                <a:latin typeface="Arial"/>
              </a:endParaRPr>
            </a:p>
          </p:txBody>
        </p:sp>
        <p:sp>
          <p:nvSpPr>
            <p:cNvPr id="48" name="_s3089"/>
            <p:cNvSpPr/>
            <p:nvPr/>
          </p:nvSpPr>
          <p:spPr>
            <a:xfrm>
              <a:off x="2500920" y="1676880"/>
              <a:ext cx="164412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ment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a:t>
              </a:r>
              <a:endParaRPr b="0" lang="en-US" sz="1400" spc="-1" strike="noStrike">
                <a:solidFill>
                  <a:srgbClr val="000000"/>
                </a:solidFill>
                <a:latin typeface="Arial"/>
              </a:endParaRPr>
            </a:p>
          </p:txBody>
        </p:sp>
        <p:sp>
          <p:nvSpPr>
            <p:cNvPr id="45" name="_s3091"/>
            <p:cNvSpPr/>
            <p:nvPr/>
          </p:nvSpPr>
          <p:spPr>
            <a:xfrm>
              <a:off x="4693680" y="1676880"/>
              <a:ext cx="164412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s</a:t>
              </a:r>
              <a:endParaRPr b="0" lang="en-US" sz="1400" spc="-1" strike="noStrike">
                <a:solidFill>
                  <a:srgbClr val="000000"/>
                </a:solidFill>
                <a:latin typeface="Arial"/>
              </a:endParaRPr>
            </a:p>
          </p:txBody>
        </p:sp>
      </p:grpSp>
      <p:sp>
        <p:nvSpPr>
          <p:cNvPr id="55" name=""/>
          <p:cNvSpPr/>
          <p:nvPr/>
        </p:nvSpPr>
        <p:spPr>
          <a:xfrm>
            <a:off x="617760" y="380880"/>
            <a:ext cx="2590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nalysis Overview</a:t>
            </a:r>
            <a:endParaRPr b="0" lang="en-US" sz="1800" spc="-1" strike="noStrike">
              <a:solidFill>
                <a:srgbClr val="000000"/>
              </a:solidFill>
              <a:latin typeface="Arial"/>
            </a:endParaRPr>
          </a:p>
        </p:txBody>
      </p:sp>
      <p:sp>
        <p:nvSpPr>
          <p:cNvPr id="56" name=""/>
          <p:cNvSpPr/>
          <p:nvPr/>
        </p:nvSpPr>
        <p:spPr>
          <a:xfrm>
            <a:off x="541080" y="3809880"/>
            <a:ext cx="76741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Information – contains details of the experi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hysics – contains information about the underlying phys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sources of noise, type of sig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 actual data to be analysed (including me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tasks – problems to be sol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methods – algorithms used to solve the 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68720" y="304920"/>
            <a:ext cx="69397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nux routines for continuous valued data classified by task type</a:t>
            </a:r>
            <a:endParaRPr b="0" lang="en-US" sz="1800" spc="-1" strike="noStrike">
              <a:solidFill>
                <a:srgbClr val="000000"/>
              </a:solidFill>
              <a:latin typeface="Arial"/>
            </a:endParaRPr>
          </a:p>
        </p:txBody>
      </p:sp>
      <p:sp>
        <p:nvSpPr>
          <p:cNvPr id="106" name=""/>
          <p:cNvSpPr/>
          <p:nvPr/>
        </p:nvSpPr>
        <p:spPr>
          <a:xfrm>
            <a:off x="430920" y="1255680"/>
            <a:ext cx="640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ing – </a:t>
            </a:r>
            <a:r>
              <a:rPr b="0" lang="en-US" sz="1200" spc="-1" strike="noStrike">
                <a:solidFill>
                  <a:srgbClr val="000000"/>
                </a:solidFill>
                <a:latin typeface="Arial"/>
              </a:rPr>
              <a:t>createdatamatc,extractdatac,binspikes,rmlinesc,locdetrend,spsvd,pca</a:t>
            </a:r>
            <a:endParaRPr b="0" lang="en-US" sz="1200" spc="-1" strike="noStrike">
              <a:solidFill>
                <a:srgbClr val="000000"/>
              </a:solidFill>
              <a:latin typeface="Arial"/>
            </a:endParaRPr>
          </a:p>
        </p:txBody>
      </p:sp>
      <p:sp>
        <p:nvSpPr>
          <p:cNvPr id="107" name=""/>
          <p:cNvSpPr/>
          <p:nvPr/>
        </p:nvSpPr>
        <p:spPr>
          <a:xfrm>
            <a:off x="453240" y="2057400"/>
            <a:ext cx="374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moment – </a:t>
            </a:r>
            <a:r>
              <a:rPr b="0" lang="en-US" sz="1200" spc="-1" strike="noStrike">
                <a:solidFill>
                  <a:srgbClr val="000000"/>
                </a:solidFill>
                <a:latin typeface="Arial"/>
              </a:rPr>
              <a:t>evoked,psth,isi,sta,staogram.</a:t>
            </a:r>
            <a:endParaRPr b="0" lang="en-US" sz="1200" spc="-1" strike="noStrike">
              <a:solidFill>
                <a:srgbClr val="000000"/>
              </a:solidFill>
              <a:latin typeface="Arial"/>
            </a:endParaRPr>
          </a:p>
        </p:txBody>
      </p:sp>
      <p:sp>
        <p:nvSpPr>
          <p:cNvPr id="108" name=""/>
          <p:cNvSpPr/>
          <p:nvPr/>
        </p:nvSpPr>
        <p:spPr>
          <a:xfrm>
            <a:off x="609480" y="28195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69000" y="2743200"/>
            <a:ext cx="8050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Moment – </a:t>
            </a:r>
            <a:r>
              <a:rPr b="0" lang="en-US" sz="1200" spc="-1" strike="noStrike">
                <a:solidFill>
                  <a:srgbClr val="000000"/>
                </a:solidFill>
                <a:latin typeface="Arial"/>
              </a:rPr>
              <a:t>mtspectrumc,mtspecgramc,mtspectrumtrigc,mtspecgramtrigc,coherencyc,cohgram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herencycpb,coherencycpt,cohgramcpb,cohgramcpt, mtspectrumsegc,coherencyseg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hmatc, crossSpecM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0" name=""/>
          <p:cNvSpPr/>
          <p:nvPr/>
        </p:nvSpPr>
        <p:spPr>
          <a:xfrm>
            <a:off x="422280" y="4605480"/>
            <a:ext cx="633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routines available for point process data (both binned spike counts and spike tim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97680" y="380880"/>
            <a:ext cx="6028200" cy="1252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protoco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ization/organization of the analysis tasks</a:t>
            </a:r>
            <a:endParaRPr b="0" lang="en-US" sz="2000" spc="-1" strike="noStrike">
              <a:solidFill>
                <a:srgbClr val="000000"/>
              </a:solidFill>
              <a:latin typeface="Arial"/>
            </a:endParaRPr>
          </a:p>
        </p:txBody>
      </p:sp>
      <p:pic>
        <p:nvPicPr>
          <p:cNvPr id="58" name="" descr=""/>
          <p:cNvPicPr/>
          <p:nvPr/>
        </p:nvPicPr>
        <p:blipFill>
          <a:blip r:embed="rId1"/>
          <a:stretch/>
        </p:blipFill>
        <p:spPr>
          <a:xfrm>
            <a:off x="304920" y="2057400"/>
            <a:ext cx="822960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762120"/>
            <a:ext cx="792468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o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of tasks and the implementation is determined by the nature of the experiment (Experimental information and domain specific knowledge) i.e. the nature of the data. But there are also common themes.</a:t>
            </a:r>
            <a:endParaRPr b="0" lang="en-US" sz="2400" spc="-1" strike="noStrike">
              <a:solidFill>
                <a:srgbClr val="000000"/>
              </a:solidFill>
              <a:latin typeface="Arial"/>
            </a:endParaRPr>
          </a:p>
        </p:txBody>
      </p:sp>
      <p:sp>
        <p:nvSpPr>
          <p:cNvPr id="60" name=""/>
          <p:cNvSpPr/>
          <p:nvPr/>
        </p:nvSpPr>
        <p:spPr>
          <a:xfrm>
            <a:off x="457200" y="3505320"/>
            <a:ext cx="7924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xample differences: Artifact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blinks, eye-ball movement, heart-beat, respiration, miscellaneous muscle activity contaminates EEG/MEG and Optical imaging da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milarly, fmri data analysis needs its own set of conditioning steps</a:t>
            </a:r>
            <a:endParaRPr b="0" lang="en-US" sz="1800" spc="-1" strike="noStrike">
              <a:solidFill>
                <a:srgbClr val="000000"/>
              </a:solidFill>
              <a:latin typeface="Arial"/>
            </a:endParaRPr>
          </a:p>
        </p:txBody>
      </p:sp>
      <p:sp>
        <p:nvSpPr>
          <p:cNvPr id="61" name=""/>
          <p:cNvSpPr/>
          <p:nvPr/>
        </p:nvSpPr>
        <p:spPr>
          <a:xfrm>
            <a:off x="457200" y="4952880"/>
            <a:ext cx="7483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mmon them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data under consideration are typically time-series, so that methods to characterize the structure in the data are comm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60 Hz line noise potentially affects all electrical/magnetic recordings and the F-test for lines is a method for removing this no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93440" y="1143000"/>
            <a:ext cx="7854480" cy="4301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physiological data type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oad-band voltage traces (0-30 kHz, say)</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unit activity voltage traces (&gt; 1 kHz, say)</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cal field potential (voltage traces) (&lt;300 Hz, say)</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olated single unit activity (spike tim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havioral traces/event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mary of experimental protocol, brain areas of interes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other miscellaneous informa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2,3,4 can be derived from 1. 1-3 are continuous; 4 i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int process. 5 can be either continuous or point proces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the experi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219320" y="1800360"/>
            <a:ext cx="6553080" cy="5057640"/>
          </a:xfrm>
          <a:prstGeom prst="rect">
            <a:avLst/>
          </a:prstGeom>
          <a:ln w="0">
            <a:noFill/>
          </a:ln>
        </p:spPr>
      </p:pic>
      <p:sp>
        <p:nvSpPr>
          <p:cNvPr id="64" name=""/>
          <p:cNvSpPr/>
          <p:nvPr/>
        </p:nvSpPr>
        <p:spPr>
          <a:xfrm>
            <a:off x="1369440" y="2057400"/>
            <a:ext cx="10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1</a:t>
            </a:r>
            <a:endParaRPr b="0" lang="en-US" sz="1400" spc="-1" strike="noStrike">
              <a:solidFill>
                <a:srgbClr val="000000"/>
              </a:solidFill>
              <a:latin typeface="Arial"/>
            </a:endParaRPr>
          </a:p>
        </p:txBody>
      </p:sp>
      <p:sp>
        <p:nvSpPr>
          <p:cNvPr id="65" name=""/>
          <p:cNvSpPr/>
          <p:nvPr/>
        </p:nvSpPr>
        <p:spPr>
          <a:xfrm>
            <a:off x="830160" y="293760"/>
            <a:ext cx="216036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ing</a:t>
            </a:r>
            <a:endParaRPr b="0" lang="en-US" sz="2800" spc="-1" strike="noStrike">
              <a:solidFill>
                <a:srgbClr val="000000"/>
              </a:solidFill>
              <a:latin typeface="Arial"/>
            </a:endParaRPr>
          </a:p>
        </p:txBody>
      </p:sp>
      <p:sp>
        <p:nvSpPr>
          <p:cNvPr id="66" name=""/>
          <p:cNvSpPr/>
          <p:nvPr/>
        </p:nvSpPr>
        <p:spPr>
          <a:xfrm>
            <a:off x="0" y="3962520"/>
            <a:ext cx="1219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4</a:t>
            </a:r>
            <a:endParaRPr b="0" lang="en-US" sz="1400" spc="-1" strike="noStrike">
              <a:solidFill>
                <a:srgbClr val="000000"/>
              </a:solidFill>
              <a:latin typeface="Arial"/>
            </a:endParaRPr>
          </a:p>
        </p:txBody>
      </p:sp>
      <p:sp>
        <p:nvSpPr>
          <p:cNvPr id="67" name=""/>
          <p:cNvSpPr/>
          <p:nvPr/>
        </p:nvSpPr>
        <p:spPr>
          <a:xfrm>
            <a:off x="7846560" y="3962520"/>
            <a:ext cx="10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2</a:t>
            </a:r>
            <a:endParaRPr b="0" lang="en-US" sz="1400" spc="-1" strike="noStrike">
              <a:solidFill>
                <a:srgbClr val="000000"/>
              </a:solidFill>
              <a:latin typeface="Arial"/>
            </a:endParaRPr>
          </a:p>
        </p:txBody>
      </p:sp>
      <p:sp>
        <p:nvSpPr>
          <p:cNvPr id="68" name=""/>
          <p:cNvSpPr/>
          <p:nvPr/>
        </p:nvSpPr>
        <p:spPr>
          <a:xfrm>
            <a:off x="7010280" y="6248520"/>
            <a:ext cx="1090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3</a:t>
            </a:r>
            <a:endParaRPr b="0" lang="en-US" sz="1400" spc="-1" strike="noStrike">
              <a:solidFill>
                <a:srgbClr val="000000"/>
              </a:solidFill>
              <a:latin typeface="Arial"/>
            </a:endParaRPr>
          </a:p>
        </p:txBody>
      </p:sp>
      <p:sp>
        <p:nvSpPr>
          <p:cNvPr id="69" name=""/>
          <p:cNvSpPr/>
          <p:nvPr/>
        </p:nvSpPr>
        <p:spPr>
          <a:xfrm>
            <a:off x="765360" y="1066680"/>
            <a:ext cx="175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ata Reduction</a:t>
            </a:r>
            <a:endParaRPr b="0" lang="en-US" sz="1800" spc="-1" strike="noStrike">
              <a:solidFill>
                <a:srgbClr val="000000"/>
              </a:solidFill>
              <a:latin typeface="Arial"/>
            </a:endParaRPr>
          </a:p>
        </p:txBody>
      </p:sp>
      <p:sp>
        <p:nvSpPr>
          <p:cNvPr id="70" name=""/>
          <p:cNvSpPr/>
          <p:nvPr/>
        </p:nvSpPr>
        <p:spPr>
          <a:xfrm>
            <a:off x="152280" y="5257800"/>
            <a:ext cx="33530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reduction also includes various schemes of dimensionality reduction (e.g. PCA) used for multivariate data; These are discussed in the analysis of optical imaging d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5791320"/>
            <a:ext cx="7254720" cy="76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ata Rearrangement</a:t>
            </a:r>
            <a:r>
              <a:rPr b="0" lang="en-US" sz="2800" spc="-1" strike="noStrike">
                <a:solidFill>
                  <a:srgbClr val="000000"/>
                </a:solidFill>
                <a:latin typeface="Arial"/>
              </a:rPr>
              <a:t> – </a:t>
            </a:r>
            <a:r>
              <a:rPr b="0" lang="en-US" sz="1600" spc="-1" strike="noStrike">
                <a:solidFill>
                  <a:srgbClr val="000000"/>
                </a:solidFill>
                <a:latin typeface="Arial"/>
              </a:rPr>
              <a:t>arrange data in analysis blocks according to some experimentally motivated criterion e.g. group all trials to conditions A and B.</a:t>
            </a:r>
            <a:endParaRPr b="0" lang="en-US" sz="1600" spc="-1" strike="noStrike">
              <a:solidFill>
                <a:srgbClr val="000000"/>
              </a:solidFill>
              <a:latin typeface="Arial"/>
            </a:endParaRPr>
          </a:p>
        </p:txBody>
      </p:sp>
      <p:pic>
        <p:nvPicPr>
          <p:cNvPr id="72" name="" descr=""/>
          <p:cNvPicPr/>
          <p:nvPr/>
        </p:nvPicPr>
        <p:blipFill>
          <a:blip r:embed="rId1"/>
          <a:stretch/>
        </p:blipFill>
        <p:spPr>
          <a:xfrm>
            <a:off x="2286000" y="609480"/>
            <a:ext cx="4343400" cy="4381560"/>
          </a:xfrm>
          <a:prstGeom prst="rect">
            <a:avLst/>
          </a:prstGeom>
          <a:ln w="0">
            <a:noFill/>
          </a:ln>
        </p:spPr>
      </p:pic>
      <p:sp>
        <p:nvSpPr>
          <p:cNvPr id="73" name=""/>
          <p:cNvSpPr/>
          <p:nvPr/>
        </p:nvSpPr>
        <p:spPr>
          <a:xfrm>
            <a:off x="533520" y="5029200"/>
            <a:ext cx="7864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lectrophysiological recordings do not suffer from as many artefacts as other modalities (this knowledge is part. So artefact removal is simpler here than (say) in MEG (to be discussed later)</a:t>
            </a:r>
            <a:endParaRPr b="0" lang="en-US" sz="1400" spc="-1" strike="noStrike">
              <a:solidFill>
                <a:srgbClr val="000000"/>
              </a:solidFill>
              <a:latin typeface="Arial"/>
            </a:endParaRPr>
          </a:p>
        </p:txBody>
      </p:sp>
      <p:sp>
        <p:nvSpPr>
          <p:cNvPr id="74" name=""/>
          <p:cNvSpPr/>
          <p:nvPr/>
        </p:nvSpPr>
        <p:spPr>
          <a:xfrm>
            <a:off x="613800" y="380880"/>
            <a:ext cx="361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rtefact identification and remo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39280" y="457200"/>
            <a:ext cx="56854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atory Analysis and Inference</a:t>
            </a:r>
            <a:endParaRPr b="0" lang="en-US" sz="2800" spc="-1" strike="noStrike">
              <a:solidFill>
                <a:srgbClr val="000000"/>
              </a:solidFill>
              <a:latin typeface="Arial"/>
            </a:endParaRPr>
          </a:p>
        </p:txBody>
      </p:sp>
      <p:sp>
        <p:nvSpPr>
          <p:cNvPr id="76" name=""/>
          <p:cNvSpPr/>
          <p:nvPr/>
        </p:nvSpPr>
        <p:spPr>
          <a:xfrm>
            <a:off x="533520" y="1295280"/>
            <a:ext cx="8001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atory analysis  and inference depend greatly on the nature of the experiment, and it is not easy to provide an exhaustive description of the protocol. We consider here one typical experimental setup: a finite number of randomly interleaved experimental conditions and recordings consisting of broad-band data along with associated behavioral markers. Assume that at the end of the conditioning steps discussed previously, the broad-band data has been converted to local field potentials, that all artifacts have been removed, and data has been rearranged according to trial condition. Then, an appropriate goal of the exploratory analysis of this dataset is (i) to characterize the spiking and local field potential activity for the different conditions, (ii) to characterize the correlations between spiking and local field potential activity for these conditions. (iii) to check whether the spikes, local fields and the spike-field correlations show apparent condition dependence (frame hypotheses).</a:t>
            </a:r>
            <a:endParaRPr b="0" lang="en-US" sz="1400" spc="-1" strike="noStrike">
              <a:solidFill>
                <a:srgbClr val="000000"/>
              </a:solidFill>
              <a:latin typeface="Arial"/>
            </a:endParaRPr>
          </a:p>
        </p:txBody>
      </p:sp>
      <p:sp>
        <p:nvSpPr>
          <p:cNvPr id="77" name=""/>
          <p:cNvSpPr/>
          <p:nvPr/>
        </p:nvSpPr>
        <p:spPr>
          <a:xfrm>
            <a:off x="534960" y="3809880"/>
            <a:ext cx="8410320" cy="265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Exploratory analy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tributional character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moment computations: e.g. spike rates, evoked LFP, spike-triggered LF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cond moment computations: e.g. spike and LFP spectra, and spike-field coheren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 different condition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Infere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unctional relationship with external quanti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Tuning curves: e.g. tuning of the spike rate, tuning of the LFP spectral power in a particular frequenc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ression: relating observed activity to continuous behavioral information (if available) e.g. Rat in maz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Hypothesis test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Spike rates differ significantly between a particular pair of conditions. LFP power in a particul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equency band differs between the different condi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85800" y="1295280"/>
            <a:ext cx="7864560" cy="298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electrophysiology data se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file LIPdata.mat, you are provided with the local field potential and spikes recorded from the same site. These recordings are taken from Pesaran et al (2002) and were acquired from the lateral intraparietal area (LIP) of macaque monkeys performing a memory guided saccade task. The task was as follows:  At the beginning of the experiment the monkey fixated on a spot of light at the center of the screen. Once fixation was acquired, a peripheral target was flashed (for 100 ms) at one of eight locations (see Figure). The monkey was required to stay fixated at the central spot for a delay period (of around 1100ms). At the end of the delay, the central spot was turned off. This was the signal to the monkey to make a saccade to the remembered location of the target. Assume that it is known from previous work in this area of the brain that the spike rates show directional tuning i.e. the average spike rate is highest for one of the eight directions and least for the opposite direc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3T16:41:18Z</dcterms:created>
  <dc:creator>x</dc:creator>
  <dc:description/>
  <dc:language>en-US</dc:language>
  <cp:lastModifiedBy>x</cp:lastModifiedBy>
  <dcterms:modified xsi:type="dcterms:W3CDTF">2005-08-17T21:32:01Z</dcterms:modified>
  <cp:revision>29</cp:revision>
  <dc:subject/>
  <dc:title>Analysis Protocols</dc:title>
</cp:coreProperties>
</file>